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211-B759-454A-8289-87A6880D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A93-AF47-405F-A5CD-665F69F5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C77-CB36-40A1-85C1-864B3D9C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68E-68BB-4528-86E1-954216EE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221-4FB5-42A5-8EDB-A2B5BAA3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C7C-6F77-4C1B-A598-A3BDDD7A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DCA-1997-4718-8943-F73422D3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628-A46D-45B4-A885-B30DE50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288-5415-4615-86AE-92A776E4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FC9-DCC9-4E86-A368-CF11985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EA8-761E-42BF-A6B9-77981A2F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C29-E52C-45A7-AD86-E76B56A9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26B-260B-4372-89A6-C2239E8A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33200" y="66600"/>
            <a:ext cx="8915400" cy="6705720"/>
          </a:xfrm>
          <a:prstGeom prst="rect">
            <a:avLst/>
          </a:prstGeom>
          <a:noFill/>
          <a:ln w="5724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8"/>
          <p:cNvGrpSpPr/>
          <p:nvPr/>
        </p:nvGrpSpPr>
        <p:grpSpPr>
          <a:xfrm>
            <a:off x="304920" y="533520"/>
            <a:ext cx="8534160" cy="5943600"/>
            <a:chOff x="304920" y="533520"/>
            <a:chExt cx="8534160" cy="5943600"/>
          </a:xfrm>
        </p:grpSpPr>
        <p:sp>
          <p:nvSpPr>
            <p:cNvPr id="43" name="Rectangle 5"/>
            <p:cNvSpPr/>
            <p:nvPr/>
          </p:nvSpPr>
          <p:spPr>
            <a:xfrm>
              <a:off x="304920" y="152388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Extra Bold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304920" y="2514600"/>
              <a:ext cx="1218960" cy="990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ak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Short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304920" y="3505320"/>
              <a:ext cx="12189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4920" y="449568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e tur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04920" y="5486400"/>
              <a:ext cx="1218960" cy="990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1523880" y="548640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2743200" y="5486400"/>
              <a:ext cx="1219320" cy="990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2743200" y="4495680"/>
              <a:ext cx="1219320" cy="99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ak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Short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2743200" y="350532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ss 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r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2743200" y="2514600"/>
              <a:ext cx="1219320" cy="990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2743200" y="152388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2743200" y="533520"/>
              <a:ext cx="1219320" cy="9903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a tur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3962520" y="533520"/>
              <a:ext cx="12189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181480" y="53352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5181480" y="1523880"/>
              <a:ext cx="1219320" cy="990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5181480" y="251460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5181480" y="3505320"/>
              <a:ext cx="1219320" cy="9903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c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spac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181480" y="4495680"/>
              <a:ext cx="1219320" cy="99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5181480" y="5486400"/>
              <a:ext cx="121932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e ahe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 spac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6400800" y="5486400"/>
              <a:ext cx="1219320" cy="990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7620120" y="548640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7620120" y="4495680"/>
              <a:ext cx="1218960" cy="990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7620120" y="3505320"/>
              <a:ext cx="12189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7620120" y="251460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lbertus Extra Bold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1"/>
          <p:cNvSpPr/>
          <p:nvPr/>
        </p:nvSpPr>
        <p:spPr>
          <a:xfrm>
            <a:off x="1523880" y="251460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3962520" y="4495680"/>
            <a:ext cx="121896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1143000" y="239220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5"/>
          <p:cNvSpPr/>
          <p:nvPr/>
        </p:nvSpPr>
        <p:spPr>
          <a:xfrm>
            <a:off x="3581280" y="441972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1" descr="C:\Documents and Settings\s0201491\Local Settings\Temporary Internet Files\Content.IE5\OX5XI545\MCj04239900000[1].wmf"/>
          <p:cNvPicPr/>
          <p:nvPr/>
        </p:nvPicPr>
        <p:blipFill>
          <a:blip r:embed="rId1"/>
          <a:stretch/>
        </p:blipFill>
        <p:spPr>
          <a:xfrm>
            <a:off x="7086600" y="380880"/>
            <a:ext cx="1558800" cy="1784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2" descr="C:\Documents and Settings\s0201491\Local Settings\Temporary Internet Files\Content.IE5\MQ6DHDOY\MPj04286060000[1].jpg"/>
          <p:cNvPicPr/>
          <p:nvPr/>
        </p:nvPicPr>
        <p:blipFill>
          <a:blip r:embed="rId2"/>
          <a:stretch/>
        </p:blipFill>
        <p:spPr>
          <a:xfrm>
            <a:off x="4073400" y="3505320"/>
            <a:ext cx="1036800" cy="706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3" descr="C:\Documents and Settings\s0201491\Local Settings\Temporary Internet Files\Content.IE5\MQ6DHDOY\MCj04325890000[1].png"/>
          <p:cNvPicPr/>
          <p:nvPr/>
        </p:nvPicPr>
        <p:blipFill>
          <a:blip r:embed="rId3"/>
          <a:stretch/>
        </p:blipFill>
        <p:spPr>
          <a:xfrm>
            <a:off x="1600200" y="3505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4" descr="C:\Documents and Settings\s0201491\Local Settings\Temporary Internet Files\Content.IE5\OX5XI545\MCj01161520000[1].wmf"/>
          <p:cNvPicPr/>
          <p:nvPr/>
        </p:nvPicPr>
        <p:blipFill>
          <a:blip r:embed="rId4"/>
          <a:stretch/>
        </p:blipFill>
        <p:spPr>
          <a:xfrm>
            <a:off x="1752480" y="990720"/>
            <a:ext cx="770040" cy="120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5" descr="C:\Documents and Settings\s0201491\Local Settings\Temporary Internet Files\Content.IE5\3F64L0DI\MPj04074630000[1].jpg"/>
          <p:cNvPicPr/>
          <p:nvPr/>
        </p:nvPicPr>
        <p:blipFill>
          <a:blip r:embed="rId5"/>
          <a:stretch/>
        </p:blipFill>
        <p:spPr>
          <a:xfrm>
            <a:off x="4038480" y="5638680"/>
            <a:ext cx="1019160" cy="677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6" descr="C:\Documents and Settings\s0201491\Local Settings\Temporary Internet Files\Content.IE5\R315PP1A\MCj04125000000[1].wmf"/>
          <p:cNvPicPr/>
          <p:nvPr/>
        </p:nvPicPr>
        <p:blipFill>
          <a:blip r:embed="rId6"/>
          <a:stretch/>
        </p:blipFill>
        <p:spPr>
          <a:xfrm>
            <a:off x="4038480" y="1752480"/>
            <a:ext cx="997200" cy="40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7" descr="C:\Documents and Settings\s0201491\Local Settings\Temporary Internet Files\Content.IE5\WOCLZ35X\MCEN00974_0000[1].wmf"/>
          <p:cNvPicPr/>
          <p:nvPr/>
        </p:nvPicPr>
        <p:blipFill>
          <a:blip r:embed="rId7"/>
          <a:stretch/>
        </p:blipFill>
        <p:spPr>
          <a:xfrm>
            <a:off x="6477120" y="3809880"/>
            <a:ext cx="857160" cy="10670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1" descr=""/>
          <p:cNvPicPr/>
          <p:nvPr/>
        </p:nvPicPr>
        <p:blipFill>
          <a:blip r:embed="rId8"/>
          <a:stretch/>
        </p:blipFill>
        <p:spPr>
          <a:xfrm>
            <a:off x="298440" y="182520"/>
            <a:ext cx="22986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43:02Z</dcterms:created>
  <dc:creator>Connie Campbell</dc:creator>
  <dc:description/>
  <dc:language>en-US</dc:language>
  <cp:lastModifiedBy>s0201491</cp:lastModifiedBy>
  <dcterms:modified xsi:type="dcterms:W3CDTF">2008-01-18T20:18:24Z</dcterms:modified>
  <cp:revision>17</cp:revision>
  <dc:subject/>
  <dc:title>Slide 1</dc:title>
</cp:coreProperties>
</file>